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195-D75C-4A43-90D2-B1A9A4F6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00F-DD60-4C0B-9F08-59954D73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6B7-992B-4428-8FD6-1DF55BD4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833-CB19-4D19-98BB-943E6546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5C30-FC82-4CA2-A8DD-3A4B63BE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C110-C833-410F-96CE-C719EAFA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4A3F-1564-41EA-A40D-D4E41E03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482A-852D-4302-8B70-7EE9D5E7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CF67-91E8-45BC-847E-7F7F8CDB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E58C-FABB-4F5C-9D75-796459C2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8D5D-066A-4208-B1F5-FAB807AD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1E6-C954-4D0F-B25A-BB43EC79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06ED-0E89-4C01-94E5-B731CC00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8645-9DEE-4875-BF8B-73C59249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5785-DBA9-427D-8F66-A70DE1EF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2015-C091-45BD-B3E1-9B1798D1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A586-3144-4EF1-BFF8-CFF7A1CF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133-3985-41F3-95F8-58F86CA8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84C4-442C-481F-ACF9-FD8A3EC6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D32-A105-4581-A986-A3E4CD31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D1F-EE08-44A0-B2A5-967D39E5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22E-D929-4787-A8E9-371A57A7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40B-3E4F-461A-BA24-33781786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ADF-5316-4DAB-8E61-66C33FE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128F-A6FD-44F8-AEAD-0C0AEEC521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CF48-8710-4FD4-AC54-AF630B59A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Divided Kingdom, Part 2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“Till There Was No Remedy”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7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ok of 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3-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6-16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judgments came about within 50 years of these prophes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s of the nations were for their wickedness against God’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s against Judah and Israel were for transgressions against the people and for transgressing God’s command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uction will be total and complete, except for a rem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ree Prophetic Serm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3:1 – 6:14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Message (3:1-15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r this word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rd was calling His people into account becaus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asked 7 rhetoric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int - it would be unreasonable to expect God to be in their presence or give them fav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condemnation of Samaria (Isra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perity and luxury would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ree Prophetic Serm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3:1 – 6:14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cond Message (4:1-13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r this word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ers had oppressed the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fallen into idolatry with their sacri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received 5 chastisements – no resul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6, v7, v9, v10, v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 have ye not returned to me”  (4:1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pare to meet thy God” (4: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ree Prophetic Serm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3:1 – 6:14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ird Message (5:1 – 6:14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r this word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ingdom would be brought to an e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srael was never reestablish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as still hope: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Seek Me and live.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mos was begging th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ek good and not evil, that ye may liv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ree Prophetic Serm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3:1 – 6:14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ird Message (5:1 – 6:14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woe was,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Woe to you who desire the day of the Lord!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(5:1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woe wa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Woe to them that are at ease in Zion, and trust in the mountain of Samaria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(6: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despised their luxurious, outward worship - it was a s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Lord God hath sworn by himself...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aptivity would not be avo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Five Visions of Amo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7:1 – 9:10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of grasshoppers (7:1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concerning the fire (7:4-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of the plumbline (7:7-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Amaziah, the priest, falsely accused Amos before Jeroboam (7:10-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declared that God had sent him and the pronounced doom on the false pri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Five Visions of Amo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7:1 – 9:10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of the basket of fruit (8:1-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 ripe for judg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days of fam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 of the passing of a kingdom – Israel; except for a remnant (9:1-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Future Restoration of Israel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9:11-15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will raise up the tabernacle of David – a new king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include the remnant of David, the remnant of Edom and all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it shall endure forev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Prophet Amo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means “burden bear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ep herdsman from Tekoa, and a dresser of sycamore 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hesied about 760 to 755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40 years before the fall of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d during the reign of Jeroboam II in Israel and Uzziah in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“trained” proph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nt him to preach to Israel - “two years before the earthquake”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Zech. 14: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75708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86200" y="3200400"/>
            <a:ext cx="4572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304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e’re Studying THIS Stretch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3276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419360" y="350532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Book of Amo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Outl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6960" indent="-50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ment against various nations around Isra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1:1-2: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960" indent="-50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f affairs of both Judah and Israel but mostly Isra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4-6: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960" indent="-50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nding punishment of Isra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7:1-9: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960" indent="-509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restoration of Israe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9:11-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Nati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1:1-2:3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scus (Syr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elties against Gilead (2 Kings 10:3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 2 Kings 16:1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a (Philist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 captives to Edom (2 Chron. 21: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 in 2 Kings 18: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re (Phoenic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ling captives to 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gment in Ezek. 26:7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Nations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1:1-2:3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ter enemies of Israel, especially when Jerusalem was besieged by Chald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pregnant women to seize territory in Gi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ed the bones of the king of E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Judah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4-5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g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ised the law of the L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pt not His command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s (false prophets) caused them to sin (e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 will come upon them and it will devour the palaces of 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of Jerusalem (2 Kings 2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Israel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6-16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g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eaders sold the righteous for silver, and the poor for a pair of sh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ted after (wanted it badly) the dust of the earth on the head of the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ed aside the way of the m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n and son with the same wo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ined pledged garments and used them in holy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ght wine with unjust and oppressive f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4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4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4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4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4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4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4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17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he Judgment of Israel</a:t>
            </a:r>
            <a:br>
              <a:rPr sz="44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s 2:6-16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gress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God’s chosen ones to break their vow and stum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ed the prophets not to prophe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’s judgment to them would be utter de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would escape, not even the strongest, the fastest, or the most coura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4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4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4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4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4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4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8:43:56Z</dcterms:created>
  <dc:creator>Don Vines</dc:creator>
  <dc:description/>
  <dc:language>en-US</dc:language>
  <cp:lastModifiedBy>Frank D Vines</cp:lastModifiedBy>
  <dcterms:modified xsi:type="dcterms:W3CDTF">2006-01-15T14:31:23Z</dcterms:modified>
  <cp:revision>29</cp:revision>
  <dc:subject/>
  <dc:title>The Divided Kingdom, Part 2 “Till There Was No Remedy”</dc:title>
</cp:coreProperties>
</file>